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90A-C087-4E31-A062-160B2232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B88-53C4-4805-9FC1-23310AF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FFA-3423-4C1E-AB82-CB5BAE7A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247-469B-47C7-AD50-66115CDC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14B-2830-4D08-AA8E-6024F88D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029-AD5A-47EB-BAFB-73E89246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B5E-0A69-4AFD-8AC1-F3C65704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ABA-F854-4F97-9FEB-07F49BF0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71E-D800-4127-BFC6-54EDBCA3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68C-EC49-49D8-B585-E42FB489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782-808F-4C0D-B657-BFF90FB4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276-81EC-432B-B790-C814B8FC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22EF-FE10-4DD8-A631-23A2D405D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Charge the Med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By Micah Wat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ve you ever wondered what small battery would be the strongest when making a home made electromagnet? Don’t worry I’ll do the testing for you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Garamond"/>
              </a:rPr>
              <a:t>Problem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battery size makes a larger magnetic field in an electromagn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 predict that the 9-volt type battery will make the strongest electromagnet because it has the most vol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Gather all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Tape ruler to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Wrap the wire around the nail 47 times having 3 ½ inches of wire not around the nail and the ends taped to the – and + side of the bat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ut the paperclip on one end of the ruler and the electromagnet on the other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Very slowly with the other ruler move the paperclip closer to the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When the paper clip moves to the magnet, record the distance from where it moves to the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o this 3 times for all the mag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079720"/>
                <a:gridCol w="1492200"/>
                <a:gridCol w="1492200"/>
                <a:gridCol w="1492200"/>
                <a:gridCol w="1673280"/>
              </a:tblGrid>
              <a:tr h="103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Test 1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Test 2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Test 3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Average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1 A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2 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.8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3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4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2.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lightning"/>
                        </a:rPr>
                        <a:t>Battery #5 9-vo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ightning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y hypothesis was incorrect, the 9-volt was not the strongest, in fact it was tied with the AAA as the weak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The placement of strength wa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D type battery, 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C type battery, 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rd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A type battery, and tied for last was 9-volt and AAA type bat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Laurel Wa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r. Wa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rs. Ri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bfb5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"Electromagnet."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ikipedi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Web. 27 Apr. 2010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en.wikipedia.org/wiki/electromagnet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"How Electromagnets work."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ow Stuff Wor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b. 27 Apr. 2010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www.howstuffworks.com/electromagnet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agnon, Steve. "How do I mak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ctromagnet."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Jefferson's La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Web. 27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r. 2010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education.jlab.org/qa/electromagnet.html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26:14Z</dcterms:created>
  <dc:creator>USD376</dc:creator>
  <dc:description/>
  <dc:language>en-US</dc:language>
  <cp:lastModifiedBy>USD376</cp:lastModifiedBy>
  <dcterms:modified xsi:type="dcterms:W3CDTF">2010-05-07T20:25:17Z</dcterms:modified>
  <cp:revision>14</cp:revision>
  <dc:subject/>
  <dc:title>Title</dc:title>
</cp:coreProperties>
</file>